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39B3-19BF-45C7-8593-448DF6C6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A1FA-CC59-4599-92EC-9F03CB429A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7055-2573-487D-9803-8499610DE0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78B6-B493-44FE-83AB-F9F266868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9DFC-3B99-4DE9-993C-6EAE7FDC4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585-A055-4321-BE88-D51535B686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7753-46CC-4A04-BEA3-D5F852A2D3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1092-76DC-47E5-A208-387A5F1DC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183C-ED00-48FE-BC44-D32390A2C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CB56-D60C-4CD2-A6D4-1CC93A7112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C32A-452B-4760-9F35-0F045CAA5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DF80-896F-463F-99FC-D605F5563D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14B5-68EB-4FC1-8385-427C84541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404E-7173-47EA-9B01-BE3115EA2B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DB3F-E7BD-4469-AF00-C1010C401D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B6E-2B6A-4FBE-BC63-8D51B7BF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1ED-E747-4073-B38F-E9444351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F69-9BDE-4E2A-8F13-63EB999D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F19-C892-4E9A-B84F-BD2C7A4D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2EF-A34B-471E-8C4E-5A81CD6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015-4B78-4BC5-B9AA-D152D327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8C9-4C87-4FC4-B0F8-D87D85B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4D2-DF35-466B-A047-C2AD9948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E08-50F0-453A-826D-875A4DDE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447-1B49-407C-A36A-CE54D440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254-4A6B-4028-ABB6-8484348D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008-A164-4382-A536-0CBF53E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E9B7-89F0-4190-8ED2-7DC6180F49E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yson Joh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ily P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ra She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e B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- Reacts with oxygen to form monoxide and peroxide, tarnishes easily with oxygen, only one that forms a nit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- Reacts quickly with water, ice, and sn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- Soft easily cut, tarnishes easily with oxygen, actually catches fire when it begins to react with water, reacts vigorously with all haloge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b- Reacts violently with water and even ice at 100 degrees 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s- Reacts explosively in water to produce cesium hydroxide, extremely strong base that can rapidly corrode g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- Highly radioactive, 22min half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ounds Form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Lithium Hydride, Lithium Fluoride, Lithium Chlor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Sodium Hydride, Sodium Chloride, Sodium Fluor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, KH, 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R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, R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bH, Rb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, 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sH, Cs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n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- Rechargeable (and non) lithium batte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- modify alloys (ex. Aluminum silic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- Used as an electrolyte in batteries and to make soap, explosive in gunpowder, healthy alternative to s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b- Used in dating rocks, purple fireworks, making glasses and ceramics, removes trace g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s- Removes air traces in vacuum clea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- too unstable, therefore research purpose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ange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um completed the discovery of naturally occurring elements (all found after were man-made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sium is the most alkaline of all the elements and is an extremely reactive me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um is the least electronegative of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idium and Francium are the only ones without the accepted silver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hium is the only one of group 1 that produces a nitrate when it reacts with Nitro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ements in Gro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hium (L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ium (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assium (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idium (R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sium (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um (F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9880" y="1671480"/>
            <a:ext cx="53341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omic Numbers and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3; 6.841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11; 27.989768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19; 39.0983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37; 85.4678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55;132.90546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87; 223.0197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lence Electrons and Electron Configu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has 1 valence electr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1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[Ne] 3s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[Ar] 4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[Kr] 5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[Xe] 6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[Rn] 7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6158600">
            <a:off x="6540120" y="1307520"/>
            <a:ext cx="3429000" cy="142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04080" y="3933720"/>
            <a:ext cx="10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46320" y="36576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114800" y="3809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lting and Boiling Poi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M: 97.72C; B: 883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M: 180.5C; B: 1342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M: 68.38C; B: 759.0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M: 39.31C; B: 688.0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M: 28.5C; B: 678.4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M: 27.0C; B: 677.0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15000" y="4648320"/>
            <a:ext cx="3429000" cy="1803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2760" y="401004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i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r And Atomic s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silver - wh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unknown metallic is accepted; 270p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 and Crystal 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0.5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0.971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0.862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1.5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1.87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@293k: 1.87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rystal structures are cubic/ body centered cu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st Ionization Energy and Electronega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502.2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98 (pauling sca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9.548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418.8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403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589.8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7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384kJ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7 (lowe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on Formation, Charge, and S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lose one electron and are smaller than the orig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ositively char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- 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- 1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- 1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b- 1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- 1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- 1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2743200"/>
            <a:ext cx="4419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55:05Z</dcterms:created>
  <dc:creator>PA Department of Education</dc:creator>
  <dc:description/>
  <dc:language>en-US</dc:language>
  <cp:lastModifiedBy>PA Department of Education</cp:lastModifiedBy>
  <dcterms:modified xsi:type="dcterms:W3CDTF">2009-12-04T16:31:46Z</dcterms:modified>
  <cp:revision>41</cp:revision>
  <dc:subject/>
  <dc:title>Alkali Metals</dc:title>
</cp:coreProperties>
</file>